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4BE-A1E0-4F8C-A96F-D1A25324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888-F1C2-405F-BF5E-C976E185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F9E-FC08-4CCD-88DF-A1BA36FD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CB6-5D8B-4C0C-BBA8-83DD974F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6F0-9D91-4136-9AB4-68F4DFC1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724B-84DE-4E7D-898E-EE18512D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FA7-2C9C-4A22-A187-5CB27F33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BB7-35E6-4526-A546-AE5D9827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8C1C-64C8-461B-8D94-1F5BBD53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D28-227F-43EE-92BB-EBA1F87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E85-D412-4C5B-88D3-DBBDBBD0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E74-BDBF-41BC-B3E6-E4BCCED6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01C5-72B5-441A-B2E4-DEA7FB901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19160" y="-15840"/>
            <a:ext cx="93423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75520" y="5778360"/>
            <a:ext cx="19684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4800" y="88920"/>
            <a:ext cx="846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UDENT ASPIR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0680" y="2227320"/>
            <a:ext cx="39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 WO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29120" y="1927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lo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29120" y="2340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er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29120" y="275256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nse of Accompl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680" y="3533760"/>
            <a:ext cx="450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IVE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680" y="5511960"/>
            <a:ext cx="44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29120" y="36702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 &amp; Exc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29120" y="4132440"/>
            <a:ext cx="34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riosity &amp; 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29120" y="459576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irit of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29120" y="554688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adership &amp;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29120" y="604512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fidence to Tak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1360" y="3581280"/>
            <a:ext cx="8667720" cy="1505160"/>
          </a:xfrm>
          <a:prstGeom prst="rect">
            <a:avLst/>
          </a:pr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840" y="92160"/>
            <a:ext cx="3184560" cy="1280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170840" y="4892760"/>
            <a:ext cx="1679400" cy="1965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108920" y="185760"/>
            <a:ext cx="1992240" cy="157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280" y="108432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09480" y="3124080"/>
            <a:ext cx="643896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542880"/>
            <a:ext cx="1735200" cy="12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820880"/>
            <a:ext cx="1735200" cy="12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079800"/>
            <a:ext cx="1735200" cy="12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357800"/>
            <a:ext cx="1735200" cy="12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627520"/>
            <a:ext cx="1735200" cy="126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9600" y="0"/>
            <a:ext cx="1827000" cy="55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24480" y="0"/>
            <a:ext cx="1827360" cy="55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43920" y="0"/>
            <a:ext cx="1827000" cy="55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0"/>
            <a:ext cx="1827360" cy="550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5120" y="542880"/>
            <a:ext cx="1822320" cy="12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reate unique learning opports at each grade level.  E.g., all jrs spend ½ day job shadowing per term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5120" y="1812960"/>
            <a:ext cx="1822320" cy="12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velop, discuss, and coordinate lessons that reflect current research on Multiple Intelligences, etc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5120" y="3084480"/>
            <a:ext cx="1822320" cy="12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ovide staff meeting time for staff action abo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odel best practice in staff meeting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5120" y="4356000"/>
            <a:ext cx="182232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arents invited to discuss real world uses of each subject area (ala a career far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5120" y="5627520"/>
            <a:ext cx="182232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tively and publicly support unique learning opts for student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43920" y="542880"/>
            <a:ext cx="1822320" cy="12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Increase in student attendance on unique lrng d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Student evals indicate relevance and interest in this type of lear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43920" y="1812960"/>
            <a:ext cx="1822320" cy="12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n any given day students have a variety of intelligences engaged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43920" y="3084480"/>
            <a:ext cx="1822320" cy="12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ff meeting time dedicated to staff action pl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ff meetings are more engag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43920" y="4356000"/>
            <a:ext cx="182232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arents in building discussing real world uses in each subject area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43920" y="5627520"/>
            <a:ext cx="182232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munity through word and budget supports unique learn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49600" y="542880"/>
            <a:ext cx="1822320" cy="631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decrease classroom boredo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78400" y="542880"/>
            <a:ext cx="1822320" cy="631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y Voice survey indicates students are generally b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ve Engag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ent boredom decreases student engagement and learning and has a contributing effect on discipline and dropout issu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" y="0"/>
            <a:ext cx="192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VE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0280" y="108432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V="1">
            <a:off x="609480" y="3790440"/>
            <a:ext cx="7124760" cy="1908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4880" y="4286160"/>
            <a:ext cx="120024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60280" y="108432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5029200"/>
            <a:ext cx="350532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60280" y="108432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90400" y="5791320"/>
            <a:ext cx="335304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0400" y="6496200"/>
            <a:ext cx="428652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0280" y="108432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09800" y="361800"/>
            <a:ext cx="72198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Next Sessi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May 9, 200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Purp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ffee &amp; Sign-in: 8:30-9: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ssion: 9:00-12: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198360" y="0"/>
            <a:ext cx="934236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175520" y="5778360"/>
            <a:ext cx="196848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0280" y="117936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09480" y="1733400"/>
            <a:ext cx="581040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7120" y="574560"/>
            <a:ext cx="7823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87680" y="262080"/>
            <a:ext cx="598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day’s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114880" y="3787920"/>
            <a:ext cx="4108320" cy="3070080"/>
            <a:chOff x="5114880" y="3787920"/>
            <a:chExt cx="4108320" cy="307008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241960" y="3919680"/>
              <a:ext cx="3981240" cy="29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14880" y="3787920"/>
              <a:ext cx="184320" cy="3070080"/>
            </a:xfrm>
            <a:prstGeom prst="rect">
              <a:avLst/>
            </a:prstGeom>
            <a:solidFill>
              <a:srgbClr val="00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09480" y="2629080"/>
            <a:ext cx="6438960" cy="0"/>
          </a:xfrm>
          <a:prstGeom prst="line">
            <a:avLst/>
          </a:prstGeom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0280" y="1332000"/>
            <a:ext cx="86216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Self-Worth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ing Active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ing Your Aspirations into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ing an Aspiration Plan with Your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ing Ou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spirations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abilit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o dream and set goal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or the future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ile being inspire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n the pres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o reach those dream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839000" y="4057560"/>
            <a:ext cx="1305000" cy="2800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34800" y="88920"/>
            <a:ext cx="846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UDENT ASPIR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680" y="2227320"/>
            <a:ext cx="395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LF WO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680" y="3533760"/>
            <a:ext cx="450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IVE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680" y="5511960"/>
            <a:ext cx="44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19270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lo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340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er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29120" y="275256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nse of Accompl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29120" y="36702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 &amp; Exc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29120" y="4132440"/>
            <a:ext cx="34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riosity &amp; 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29120" y="459576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irit of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29120" y="554688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eadership &amp;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6045120"/>
            <a:ext cx="38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fidence to Tak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5600" y="216000"/>
            <a:ext cx="1620720" cy="2012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34800" y="88920"/>
            <a:ext cx="846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UDENT ASPIR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680" y="3533760"/>
            <a:ext cx="450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IVE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29120" y="35370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 &amp; Exc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70840" y="4892760"/>
            <a:ext cx="1679400" cy="1965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435560" y="2146320"/>
            <a:ext cx="4346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onder if anything will ever make our principal laugh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-Jasmine, a middle school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34800" y="88920"/>
            <a:ext cx="846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UDENT ASPIR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0680" y="3533760"/>
            <a:ext cx="450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IVE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29120" y="35370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 &amp; Exc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29120" y="3998880"/>
            <a:ext cx="34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riosity &amp; 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70840" y="4892760"/>
            <a:ext cx="1679400" cy="1965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108920" y="185760"/>
            <a:ext cx="1992240" cy="1579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24160" y="5202360"/>
            <a:ext cx="4024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some reason I like painting blue rose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-Becky, a second gr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f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2840" y="92160"/>
            <a:ext cx="3184560" cy="1280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34800" y="88920"/>
            <a:ext cx="846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STUDENT ASPIR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680" y="3533760"/>
            <a:ext cx="450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TIVE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9120" y="35370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 &amp; Exc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29120" y="3998880"/>
            <a:ext cx="34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riosity &amp; Cre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29120" y="446256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irit of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70840" y="4892760"/>
            <a:ext cx="1679400" cy="1965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108920" y="185760"/>
            <a:ext cx="1992240" cy="1579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7560" y="1994040"/>
            <a:ext cx="57200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 am not afraid of a lot of things, but raising my hand in class scares me to death…Now my teachers think I’m stupi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-Marcus, a high school ju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9:49:25Z</dcterms:created>
  <dc:creator>Mickey Corso</dc:creator>
  <dc:description/>
  <dc:language>en-US</dc:language>
  <cp:lastModifiedBy> </cp:lastModifiedBy>
  <dcterms:modified xsi:type="dcterms:W3CDTF">2008-07-09T18:31:10Z</dcterms:modified>
  <cp:revision>47</cp:revision>
  <dc:subject/>
  <dc:title>Slide 1</dc:title>
</cp:coreProperties>
</file>